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DF5-7549-4B70-9270-3DEB159B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86F-B5B6-4982-BB68-AB68E64C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A52-5C87-47AD-BD8E-0026F36E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DDE-6F51-438A-A668-FEDD6751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70E-12AF-4FD0-8521-49733C6C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B8C-F74D-4C14-8E6A-5F544A54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007-56E9-4C38-BA80-C2CD6890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605-EC7A-4C16-8518-0C97FAE1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CD6-667E-4422-8CEC-A4A1C109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101-35C2-435A-BC63-3F6860AE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9241-1499-4584-A43F-CACD59F0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60B-1BA7-4FAA-B89E-D09A9136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6676-BA51-4469-B18C-8FD6B0B808B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17520" y="2637000"/>
            <a:ext cx="84312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علم التفسير من أفضل العلوم وأشرف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200160" y="1413000"/>
            <a:ext cx="8665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لما كان القرآن الكريم أشرف العلوم كان الفهم لمعانيه أوفى الفهوم لأن شرف العلم بشرف المعل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382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وانب فضل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رابط مستقيم 44"/>
          <p:cNvSpPr/>
          <p:nvPr/>
        </p:nvSpPr>
        <p:spPr>
          <a:xfrm flipH="1">
            <a:off x="4571640" y="23288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45"/>
          <p:cNvSpPr/>
          <p:nvPr/>
        </p:nvSpPr>
        <p:spPr>
          <a:xfrm flipH="1">
            <a:off x="1476000" y="2565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4140360" y="2874960"/>
            <a:ext cx="251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اخل في قو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((خيركم من تعلم القرآن وعلمه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47"/>
          <p:cNvCxnSpPr/>
          <p:nvPr/>
        </p:nvCxnSpPr>
        <p:spPr>
          <a:xfrm>
            <a:off x="7956360" y="2572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عنوان 1"/>
          <p:cNvSpPr/>
          <p:nvPr/>
        </p:nvSpPr>
        <p:spPr>
          <a:xfrm>
            <a:off x="6948360" y="2874960"/>
            <a:ext cx="1944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ه يتعلق بكتاب الله الخال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رابط كسهم مستقيم 49"/>
          <p:cNvCxnSpPr/>
          <p:nvPr/>
        </p:nvCxnSpPr>
        <p:spPr>
          <a:xfrm>
            <a:off x="1476000" y="2565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عنوان 1"/>
          <p:cNvSpPr/>
          <p:nvPr/>
        </p:nvSpPr>
        <p:spPr>
          <a:xfrm>
            <a:off x="395280" y="2946240"/>
            <a:ext cx="232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سلم مطالب بقراءة القرآن الكري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بتدبر وتفه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51"/>
          <p:cNvCxnSpPr/>
          <p:nvPr/>
        </p:nvCxnSpPr>
        <p:spPr>
          <a:xfrm>
            <a:off x="5363640" y="25855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00160" y="3573360"/>
            <a:ext cx="8692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ه يتعلق بكتاب الله الخالد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059280" y="4116240"/>
            <a:ext cx="5867280" cy="46512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4653000"/>
            <a:ext cx="869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فضل التفسير أنه داخل في قوله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 ((خيركم من تعلم القرآن وعلمه))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تعلم القرآن وتعليمه يشمل المعاني والحروف معاً ولا طريق لمعرفة معاني القرآن إلا ب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5584680"/>
            <a:ext cx="869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 المسلم مطالب بقراءة القرآن الكريم بتدبر وتفهم :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826920" y="6093000"/>
            <a:ext cx="80884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1989000"/>
            <a:ext cx="8642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الإتيان بمثل القران ك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عشر س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حديث مثله 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609040" cy="5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597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72880" y="1844640"/>
            <a:ext cx="8691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ريغ القلب من الانشغال بغير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رتيل عند قراءة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ستشعار عظمة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حاولة فهم معاني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بط القرآن بواقعك الذي تعيش في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2843280" y="1052640"/>
            <a:ext cx="5816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